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965672-F839-41BF-83B5-DF50015CBF3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2DE7DD-99EA-46FC-9625-071AE954CB7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322D7A-6E52-45F0-9268-4547AF3F0A4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5299D8-614D-4268-9313-5170EF3EEED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3A29835-52BD-4B20-BE75-18E1D89704B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67F-8802-4DCD-AF3E-C0DB2345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E7C-E5C9-4267-8E90-078771FB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E89-7F72-4BC6-895A-8CD42BA2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876-A027-41EA-903A-787125BB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2A1E-172B-4C28-8439-82E48A89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F4CE-7B79-4564-8907-8E172C18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3B5-90AC-451E-A4F3-286B45EC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2DE2-46DF-45D2-BA7E-3A862AA4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B57-77DB-47A4-8BD4-5A5AB15F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4988-34D6-4E35-B933-BA465F2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9FA8-3360-4177-9B4E-A636AFDB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226-B8E7-4949-8639-0D08AAFD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5BB7-E98B-4C06-AD10-6010764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9958-F690-4BC2-AB54-F411A30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0036-2736-42EA-8885-DA0A63EA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4E7B-014D-433F-8E06-973A986D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C525-31C3-4843-A718-9EE96400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F7D-0804-4295-89EC-5851934D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F82-6A4D-47D9-826D-EE50518A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B0D-1DE9-4037-A723-C125819D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305-40F8-403C-BA3C-84D65839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6D3-B1CA-44A5-8BD4-B7BBBAB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4C0-A991-4493-82B9-0566235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20B-3E3A-483D-8E7B-53EAFB0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5DAC-97BC-4D87-A440-99E1BA63AC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F34A-8A4A-469D-A148-C88F9FF21F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robocup2004.pt/photosAndVideos/videos/humanoid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figurie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theseprozess, bei dem Objekte aus einem vorgegebenen Anwendungsbereich unter Einhaltung bestimmter Bedingungen strukturiert zusammengefügt werden mü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pezifikation bestimmt Anforderungen an die zu erzeugende K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enge von Restriktionen und Relationen zwischen Objekten bestimmt Rand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Rechner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Funktionsfähiger Rechner, der optimiert ist für bestimmte Anwendungen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: Preis, einzelne Komponenten, CPU, Hauptspeicher, Festplatten, I/O, externe Gerät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n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nach einer Erklärung für ein bestimmtes (Fehl-)Verhalten in ein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r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bä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(selbständige) Aneignung von Wissen und Verbes-serung der Problemlösungsfähigkeit im Laufe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durch  Repräsentationsmechanismen mit reichhaltiger Syntax/Semantik kod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enbasiertes Lern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in einfachen Datenstrukturen wie z.B. Zahlen kodiert, Inferenz findet durch numerische oder einfache strukturelle Operationen sta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v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: Aufstellung einer Klassenbeschreibung durch Merkmalsanalyse vieler Beispiele aus der K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e Beschreibung: Schätzung einer Verteilungsfunktion und deren Parameter   (klassische Mustererkennungs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mbolische Beschreibung: Ableitung einer logischen Beschreibung, verschiedene Generalisierungs- und Spezialisier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14160000">
            <a:off x="6915240" y="353484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7470720" y="35067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7209000" y="3506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209000" y="37609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734076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7405560" y="36972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7534440" y="388764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7470720" y="4076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664400" y="4013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94720" y="414180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7924680" y="42670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7599240" y="3633840"/>
            <a:ext cx="12060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7664400" y="3822840"/>
            <a:ext cx="120600" cy="1188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7861320" y="3887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7989840" y="4076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7599240" y="42037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729560" y="4330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7970760" y="331776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8101080" y="350676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8229600" y="325296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8035920" y="369720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7842240" y="357192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8229600" y="363384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8361360" y="344340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8491680" y="363384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Oval 29"/>
          <p:cNvSpPr/>
          <p:nvPr/>
        </p:nvSpPr>
        <p:spPr>
          <a:xfrm>
            <a:off x="7777080" y="3162240"/>
            <a:ext cx="965160" cy="87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8541720" y="38973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6636600" y="36687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AutoShape 32"/>
          <p:cNvSpPr/>
          <p:nvPr/>
        </p:nvSpPr>
        <p:spPr>
          <a:xfrm>
            <a:off x="2948040" y="596916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4014720" y="612144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AutoShape 34"/>
          <p:cNvSpPr/>
          <p:nvPr/>
        </p:nvSpPr>
        <p:spPr>
          <a:xfrm>
            <a:off x="3481560" y="635004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5943600" y="6172200"/>
            <a:ext cx="457200" cy="2286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5" name="AutoShape 36"/>
          <p:cNvSpPr/>
          <p:nvPr/>
        </p:nvSpPr>
        <p:spPr>
          <a:xfrm>
            <a:off x="6934320" y="62485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6" name="AutoShape 37"/>
          <p:cNvSpPr/>
          <p:nvPr/>
        </p:nvSpPr>
        <p:spPr>
          <a:xfrm>
            <a:off x="6477120" y="6400800"/>
            <a:ext cx="304560" cy="304920"/>
          </a:xfrm>
          <a:prstGeom prst="pi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28800" y="5845320"/>
            <a:ext cx="25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rötlic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gelb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6-Ec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4267080" y="6400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7430760" y="5851440"/>
            <a:ext cx="17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bläu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8195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27432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Freeform 43"/>
          <p:cNvSpPr/>
          <p:nvPr/>
        </p:nvSpPr>
        <p:spPr>
          <a:xfrm>
            <a:off x="2819520" y="4191120"/>
            <a:ext cx="1218960" cy="48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3" name="Freeform 44"/>
          <p:cNvSpPr/>
          <p:nvPr/>
        </p:nvSpPr>
        <p:spPr>
          <a:xfrm>
            <a:off x="3505320" y="4102200"/>
            <a:ext cx="99036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4" name="Rectangle 45"/>
          <p:cNvSpPr/>
          <p:nvPr/>
        </p:nvSpPr>
        <p:spPr>
          <a:xfrm>
            <a:off x="2819520" y="5867280"/>
            <a:ext cx="14364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5715000" y="5867280"/>
            <a:ext cx="175248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6" name="Text Box 47"/>
          <p:cNvSpPr/>
          <p:nvPr/>
        </p:nvSpPr>
        <p:spPr>
          <a:xfrm>
            <a:off x="2881080" y="6365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7" name="Text Box 48"/>
          <p:cNvSpPr/>
          <p:nvPr/>
        </p:nvSpPr>
        <p:spPr>
          <a:xfrm>
            <a:off x="5821920" y="6345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stanzen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 ohne eine Generalisierung vorzuneh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Mustererkennung: Nächster-Nachbar-Klassi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Based Reasoning (CBR): Um ein neues Problem zu lösen wird die bekannte Lösung eines möglichst ähnlichen Problems entsprechend angepa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hnlichkeit vo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einer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ung und Zugriff auf gelöst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 rot="14160000">
            <a:off x="1805040" y="349668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360520" y="34686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098800" y="346860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98800" y="3722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2230560" y="391320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2295360" y="365904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424240" y="3849840"/>
            <a:ext cx="1188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360520" y="403848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2554200" y="39751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2684520" y="4103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2814480" y="4229280"/>
            <a:ext cx="1191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1" name="Oval 15"/>
          <p:cNvSpPr/>
          <p:nvPr/>
        </p:nvSpPr>
        <p:spPr>
          <a:xfrm>
            <a:off x="2489040" y="3595680"/>
            <a:ext cx="12096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2554200" y="378468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Oval 17"/>
          <p:cNvSpPr/>
          <p:nvPr/>
        </p:nvSpPr>
        <p:spPr>
          <a:xfrm>
            <a:off x="2751120" y="3849840"/>
            <a:ext cx="1173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2879640" y="40384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489040" y="4165560"/>
            <a:ext cx="1209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2619360" y="4292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2860560" y="327960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2990880" y="346860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3119400" y="321480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2925720" y="365904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25"/>
          <p:cNvSpPr/>
          <p:nvPr/>
        </p:nvSpPr>
        <p:spPr>
          <a:xfrm>
            <a:off x="2732040" y="353376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3119400" y="359568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3251160" y="340524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3381480" y="359568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2666880" y="3124080"/>
            <a:ext cx="965160" cy="87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431520" y="38592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1526400" y="36306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24382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2363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6213600" y="338148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951520" y="33814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951520" y="3635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083280" y="38257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6148440" y="35719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6276960" y="37623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21360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6407280" y="388764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Oval 42"/>
          <p:cNvSpPr/>
          <p:nvPr/>
        </p:nvSpPr>
        <p:spPr>
          <a:xfrm>
            <a:off x="6537240" y="401652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6667560" y="4141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Oval 44"/>
          <p:cNvSpPr/>
          <p:nvPr/>
        </p:nvSpPr>
        <p:spPr>
          <a:xfrm>
            <a:off x="6342120" y="3508200"/>
            <a:ext cx="120600" cy="1177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Oval 45"/>
          <p:cNvSpPr/>
          <p:nvPr/>
        </p:nvSpPr>
        <p:spPr>
          <a:xfrm>
            <a:off x="6407280" y="369720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Oval 46"/>
          <p:cNvSpPr/>
          <p:nvPr/>
        </p:nvSpPr>
        <p:spPr>
          <a:xfrm>
            <a:off x="6603840" y="376236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Oval 47"/>
          <p:cNvSpPr/>
          <p:nvPr/>
        </p:nvSpPr>
        <p:spPr>
          <a:xfrm>
            <a:off x="6732720" y="395136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Oval 48"/>
          <p:cNvSpPr/>
          <p:nvPr/>
        </p:nvSpPr>
        <p:spPr>
          <a:xfrm>
            <a:off x="6342120" y="4078440"/>
            <a:ext cx="1206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Oval 49"/>
          <p:cNvSpPr/>
          <p:nvPr/>
        </p:nvSpPr>
        <p:spPr>
          <a:xfrm>
            <a:off x="6472080" y="42051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6713640" y="319248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AutoShape 51"/>
          <p:cNvSpPr/>
          <p:nvPr/>
        </p:nvSpPr>
        <p:spPr>
          <a:xfrm>
            <a:off x="6843600" y="338148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AutoShape 52"/>
          <p:cNvSpPr/>
          <p:nvPr/>
        </p:nvSpPr>
        <p:spPr>
          <a:xfrm>
            <a:off x="6972480" y="3127320"/>
            <a:ext cx="185400" cy="1191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AutoShape 53"/>
          <p:cNvSpPr/>
          <p:nvPr/>
        </p:nvSpPr>
        <p:spPr>
          <a:xfrm>
            <a:off x="6778800" y="357192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AutoShape 54"/>
          <p:cNvSpPr/>
          <p:nvPr/>
        </p:nvSpPr>
        <p:spPr>
          <a:xfrm>
            <a:off x="6585120" y="3446640"/>
            <a:ext cx="182520" cy="1155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560" bIns="-7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AutoShape 55"/>
          <p:cNvSpPr/>
          <p:nvPr/>
        </p:nvSpPr>
        <p:spPr>
          <a:xfrm>
            <a:off x="6972480" y="3508200"/>
            <a:ext cx="18540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AutoShape 56"/>
          <p:cNvSpPr/>
          <p:nvPr/>
        </p:nvSpPr>
        <p:spPr>
          <a:xfrm>
            <a:off x="7104240" y="3317760"/>
            <a:ext cx="18396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AutoShape 57"/>
          <p:cNvSpPr/>
          <p:nvPr/>
        </p:nvSpPr>
        <p:spPr>
          <a:xfrm>
            <a:off x="7234200" y="3508200"/>
            <a:ext cx="18432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Rectangle 58"/>
          <p:cNvSpPr/>
          <p:nvPr/>
        </p:nvSpPr>
        <p:spPr>
          <a:xfrm>
            <a:off x="7284240" y="37720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59"/>
          <p:cNvSpPr/>
          <p:nvPr/>
        </p:nvSpPr>
        <p:spPr>
          <a:xfrm>
            <a:off x="5379120" y="35434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6" name="Rectangle 60"/>
          <p:cNvSpPr/>
          <p:nvPr/>
        </p:nvSpPr>
        <p:spPr>
          <a:xfrm>
            <a:off x="63244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295680" y="270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388" name="AutoShape 62"/>
          <p:cNvCxnSpPr>
            <a:stCxn id="386" idx="1"/>
            <a:endCxn id="360" idx="0"/>
          </p:cNvCxnSpPr>
          <p:nvPr/>
        </p:nvCxnSpPr>
        <p:spPr>
          <a:xfrm flipH="1">
            <a:off x="6271560" y="3200040"/>
            <a:ext cx="529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AutoShape 63"/>
          <p:cNvCxnSpPr>
            <a:stCxn id="386" idx="2"/>
            <a:endCxn id="370" idx="0"/>
          </p:cNvCxnSpPr>
          <p:nvPr/>
        </p:nvCxnSpPr>
        <p:spPr>
          <a:xfrm>
            <a:off x="6400800" y="3276360"/>
            <a:ext cx="216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AutoShape 64"/>
          <p:cNvCxnSpPr>
            <a:stCxn id="386" idx="2"/>
            <a:endCxn id="380" idx="1"/>
          </p:cNvCxnSpPr>
          <p:nvPr/>
        </p:nvCxnSpPr>
        <p:spPr>
          <a:xfrm>
            <a:off x="6400440" y="3276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AutoShape 65"/>
          <p:cNvCxnSpPr>
            <a:stCxn id="386" idx="3"/>
            <a:endCxn id="376" idx="1"/>
          </p:cNvCxnSpPr>
          <p:nvPr/>
        </p:nvCxnSpPr>
        <p:spPr>
          <a:xfrm>
            <a:off x="6477120" y="3200040"/>
            <a:ext cx="281520" cy="5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AutoShape 66"/>
          <p:cNvCxnSpPr>
            <a:stCxn id="386" idx="1"/>
            <a:endCxn id="361" idx="7"/>
          </p:cNvCxnSpPr>
          <p:nvPr/>
        </p:nvCxnSpPr>
        <p:spPr>
          <a:xfrm flipH="1">
            <a:off x="6054120" y="3200040"/>
            <a:ext cx="2703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AutoShape 67"/>
          <p:cNvCxnSpPr>
            <a:stCxn id="358" idx="1"/>
            <a:endCxn id="330" idx="6"/>
          </p:cNvCxnSpPr>
          <p:nvPr/>
        </p:nvCxnSpPr>
        <p:spPr>
          <a:xfrm flipH="1">
            <a:off x="2118960" y="3200400"/>
            <a:ext cx="31968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AutoShape 68"/>
          <p:cNvCxnSpPr>
            <a:stCxn id="358" idx="3"/>
            <a:endCxn id="355" idx="1"/>
          </p:cNvCxnSpPr>
          <p:nvPr/>
        </p:nvCxnSpPr>
        <p:spPr>
          <a:xfrm>
            <a:off x="2590920" y="3200400"/>
            <a:ext cx="218160" cy="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klärungs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 Problemlösungsfähigkeit kann auch darin bestehen, schneller zu einer Lösung zu ko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 umfasst die Umformung des Wissens in eine operationale(re)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wissen und ein einzelnes spezifisches Beispiel werden dazu verwendet, das Wissen so zu formulieren, dass es besser angewendet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enetische Algorith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John Holland in den 70er Jahren als Problemlösungsmethode entwickelt, welche sich evolutionärer Mechanismen bedient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Lösungen unterschiedlicher Qualität bilden eine Population, wobei die besten Individuen eine höhere Chance erhalten, sich fortzu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Lösungen entstehen durch Kreuzung und M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1106640" y="4010040"/>
            <a:ext cx="4008240" cy="255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703240" y="53910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35200" y="49086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187440" y="42861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3809880" y="48387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671640" y="55990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2565000" y="601344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459440" y="51148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666800" y="566892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000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804680" y="44928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09" name="AutoShape 14"/>
          <p:cNvCxnSpPr>
            <a:stCxn id="399" idx="7"/>
            <a:endCxn id="399" idx="5"/>
          </p:cNvCxnSpPr>
          <p:nvPr/>
        </p:nvCxnSpPr>
        <p:spPr>
          <a:xfrm flipH="1" rot="16200000">
            <a:off x="3624480" y="5287680"/>
            <a:ext cx="1808640" cy="2160"/>
          </a:xfrm>
          <a:prstGeom prst="curvedConnector5">
            <a:avLst>
              <a:gd name="adj1" fmla="val -33346"/>
              <a:gd name="adj2" fmla="val 114940000"/>
              <a:gd name="adj3" fmla="val -3334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0" name="Text Box 15"/>
          <p:cNvSpPr/>
          <p:nvPr/>
        </p:nvSpPr>
        <p:spPr>
          <a:xfrm>
            <a:off x="6497640" y="4286160"/>
            <a:ext cx="2367000" cy="1729080"/>
          </a:xfrm>
          <a:prstGeom prst="rect">
            <a:avLst/>
          </a:prstGeom>
          <a:solidFill>
            <a:srgbClr val="caca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tness-basierte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ahl  +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wendung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tischer Operator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Rekombination,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tion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16320" y="3732120"/>
                <a:ext cx="561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740120" y="6013440"/>
                <a:ext cx="758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euronale Netzwer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520" y="1295280"/>
            <a:ext cx="7936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ronale Netzwerke sind Klassifikatoren, deren Arbeitsweise bestimmte Charakteristika des menschlichen neuronalen Systems imiti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selbstständig rechnenden Einheiten, die Neuronen genann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3882960"/>
          <a:ext cx="5348520" cy="17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82960"/>
                    <a:ext cx="534852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Line 5"/>
          <p:cNvSpPr/>
          <p:nvPr/>
        </p:nvSpPr>
        <p:spPr>
          <a:xfrm>
            <a:off x="25686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683160" y="594216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(Problem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beschreib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6260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98000" y="594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Struktur eines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biologischen Neuron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912000" y="518004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863680" y="59421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(Problemlös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großer, unübersichtlicher Datenmengen mit dem Ziel der Entdeckung verborgener allgemeiner M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iehungen zwischen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uelle oder numerische Regelmäßigkeiten oder Anom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istische Methoden und maschinelle Lern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setzt z.B. bei Data Ware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ale Darstellung von Wissen über einen bestimmten Bereich (Modellierung von Objekten, Beziehungen, Ereignissen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es Abbild der Re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n, Prädi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mes, semantische Netzwe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, Produktion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hne Operatoren zur Verarbeitung des Wissens wert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erenzmech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basierte Syst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nnung von Wissensrepräsentation und Operatoren zur Anwendung des Wis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lösungskomponente ist unabhängig vom Anwendungs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 über einen Bereich kann unabhängig vom Rest des Systems (Operatoren zur Anwendung des Wissens) bearbeitet bzw. ausgetausch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tensy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des Wissens über einen bestimmten Anwendungsbereich zur Lösung spezifischer Probleme aus diesem Bere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repräsentiert menschlichen Experten für einen bestimmten 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192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ussfolgerungsmechanismen, mit deren Hilfe aus bekanntem Wissen “neues” Wissen abgeleitet werden k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von Ableit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uktion: folgerichtig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: generalisierend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duktion: ursächlich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n über die Welt, z.B. Closed World Assumption, (nicht) monotone Log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heiten (probabilistische oder unscharfe Log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rist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menregel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/logischer Kalkü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es System zur Beschreibung des Wissens (Repräsentationsform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Ableitungsregeln zur Herleitung logischer Folgerungen (Infer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, einfache logische Verknüpfungen wie z.B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Resolution, Modus Ponen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dikat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, logische Verknüpfungen, Variablen und deren Quantifizierung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Resolu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rtenlog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 von “Typen”, die bei der Unifikation eine Rolle 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allogik(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oren werden durch Modalitäten (z.B. ,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gänzt, mit denen Möglichkeiten modelliert werden können (notwendig / möglich)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je nach Anwendungsgebiet unterschiedlich interpretiert werden, z.B. in Temporallogik: irgendwann / 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371600"/>
            <a:ext cx="8291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chtmonotone Log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er Invalidierung von Schlussfolgerungen durch hinzukommendes neu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closed-world reasoning: jede nicht explizit gegebene Grundaussage wird als falsch angenom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Ermangelungsschließen: unvollständiges Wissen wird durch Standardannahmen ergänzt (z.B. “A‘s sind typischerweise B‘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abilistische 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Entscheidungen müssen getroffen werden, ohne dass alles Wissen, das dazu erforderlich ist, bekann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exakt logisch, sondern Berücksichtigung von Unsicherheitsfaktoren für Fakten und Schlussfolg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charfes Schließen, nicht nur “ja”/”nein”, sondern auch “eher ja” / “eher nein” (verschiedene Abstufungen von Gül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zzy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4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elt von Lotfi Zadeh in den 60er Jahren, mit dem Ziel, bestimmte Probleme aus der klassischen Logik (Binär- Logik)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zzy Logic umfasst 0 and 1 als Extremfälle eines Wahrheitswerts, aber ebenso Zwischenw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ähnlicher zu dem, wie ein Mensch de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371600" y="6019920"/>
            <a:ext cx="167652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906480" y="4820400"/>
            <a:ext cx="1689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Binär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11430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793440" y="594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236232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944000" y="5942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3429000" y="486828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uzzy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3419640" y="522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31233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70722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905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o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4724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867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442008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Impact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51880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Impact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4876920" y="5430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inePrinter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ktueller Trend: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 sind noch viele KI-Syst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fisch auf einen Zweck ausgerichtet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ücksichtigen zumeist nur einen oder zumindest nur wenige Aspekte menschlicher Intellig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eingebettet in Umgebung -&gt; k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od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rebt werden Systeme, die umfassender sind bzw. mehr Aspekte abdec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riesige Systeme wie z.B. CYC (Wissensbasis mit mehr als 1 Mio. Regeln), die einen breiten Einsatz anstr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teilte Intelligenz mit Hilfe von Agenten, die bei Bedarf miteinander koope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371240"/>
            <a:ext cx="843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ntrale Sichtweise im folgenden die eines Ag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gent ist eine autonome Einheit, welche ihre Umwelt wahrnimmt und in ihr ag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rationaler Agent richtet seine Handlungen so aus, dass ein vorgegebenes Ziel möglichst gut erreich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te Formale Beschreibung durch 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ucht wird jeweils ein Agent, der die beste Performance hat (unter Wahrung bestimmter Restri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48160" y="4332240"/>
                <a:ext cx="1982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149544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1440" y="1125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373800" y="1125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4436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smerkmal: Ab-/Anwesenheit einer expli-ziten Darstellung des im System vorhandenen Wiss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n und Schwächen sind komplementä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wei Paradigmen der KI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98520" y="342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85160" y="3860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925520" y="22050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ssensreprä-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entati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432800" y="33577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urona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tz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58080" y="16286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net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lgorithm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625840" y="24922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aschinell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59036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68920" y="306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itä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nalität bedeutet n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wiss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lsich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rantierter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dern bezieht sich auf den erwarteten (erwartbaren) Erf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er rationaler Agent versucht seine Performance zu optimieren, indem er unter Berücksichtigung der Beobachtungen aus der Umwelt und seines Wissens über dieser Umwelt entsprechende Aktionen ausf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Ma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rnehmungs-Sequenzen aus der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ie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führbare A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rcRect l="7032" t="11458" r="42191" b="56253"/>
          <a:stretch/>
        </p:blipFill>
        <p:spPr>
          <a:xfrm>
            <a:off x="762120" y="2819520"/>
            <a:ext cx="7543800" cy="35971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/>
          <p:cNvSpPr/>
          <p:nvPr/>
        </p:nvSpPr>
        <p:spPr>
          <a:xfrm>
            <a:off x="744840" y="118440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ahrnehm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Aktionen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Ziele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Umgeb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3716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ierter Taxifa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hrnehmungen (Per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deo, Beschleunigungsmesser, GP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onen (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n, beschleunigen, bremsen, sprec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(Go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t erreichen, Profit maximieren, Sicherheit, Verkehrsregeln beacht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ebung (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ßen einer Stadt, Autobahn, Fußgänger, Radfahrer, Wette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ist definiert in einer Umgebung und besitzt Wissen über s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empfängt Nachrichten aus seiner Umwelt und handelt entsprech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ver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besitzt Ziele, die er erfülle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Problemlösung (Wie kann das Ziel erreicht werd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der Planung von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will seine Ziele möglichst gut erfü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Verbesserung durch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in einer menschlich geprägten Umgebung 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Interpretation von Sensordaten (Bildanaly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Navigation und Handhabung (Robo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Kommunikation mit Menschen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herausfinden, warum etwas nicht wie geplant funktioniert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(Fehler-)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gäng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alle für eine Entscheidung notwendigen Teile der Umgebung beobacht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änglich / nicht zugän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erminierth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 der aktuelle Zustand der Umgebung zusammen mit der gewählten Aktion eindeutig den Folgezu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istisch / nicht determinis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pisodenhaftig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 Erfahrung des Agenten in einzelne Episoden (Wahrnehmung + Handlung, keine Historie) eingetei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pisodenhaft / nicht episodenhaf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änder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sich die Umgebung während des Entscheidungsfindungspozesses veränd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 / 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der Raum der Wahrnehmungen und Aktionen diskret oder kontinuier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kret / kontinui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09520" y="1523880"/>
            <a:ext cx="869688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gebung                 zugänglich     deterministisch    episodisch    statisch    diskre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a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ckgamm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zinische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ildanaly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le Wel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4382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728136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832608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28580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4582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60584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294120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4452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60454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726876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831312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8580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44582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0584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18560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822996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8580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4582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60584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71856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81540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7086960" y="2173320"/>
            <a:ext cx="8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832608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29538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45540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61542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28944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Text Box 32"/>
          <p:cNvSpPr/>
          <p:nvPr/>
        </p:nvSpPr>
        <p:spPr>
          <a:xfrm>
            <a:off x="44946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60948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72219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81903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3" name="Text Box 36"/>
          <p:cNvSpPr/>
          <p:nvPr/>
        </p:nvSpPr>
        <p:spPr>
          <a:xfrm>
            <a:off x="29538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4" name="Text Box 37"/>
          <p:cNvSpPr/>
          <p:nvPr/>
        </p:nvSpPr>
        <p:spPr>
          <a:xfrm>
            <a:off x="45540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832608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6058440" y="2173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Text Box 40"/>
          <p:cNvSpPr/>
          <p:nvPr/>
        </p:nvSpPr>
        <p:spPr>
          <a:xfrm>
            <a:off x="7163640" y="54831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truktur eines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17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= Architektur +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ufbau der Ein- und Ausgabegeräte sowie der Verarbeitungseinheiten des Agenten (Sensoren, Effektoren, Proz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Funktion, die die Abbildung der Wahrnehmungen auf Aktionen vorn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278160" y="3716280"/>
                <a:ext cx="2182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182520" y="4346640"/>
            <a:ext cx="75042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kup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3" name="Rectangle 3"/>
          <p:cNvGrpSpPr/>
          <p:nvPr/>
        </p:nvGrpSpPr>
        <p:grpSpPr>
          <a:xfrm>
            <a:off x="304920" y="1176480"/>
            <a:ext cx="8242200" cy="2682720"/>
            <a:chOff x="304920" y="1176480"/>
            <a:chExt cx="8242200" cy="2682720"/>
          </a:xfrm>
        </p:grpSpPr>
        <p:pic>
          <p:nvPicPr>
            <p:cNvPr id="524" name="Rectangle 3" descr=""/>
            <p:cNvPicPr/>
            <p:nvPr/>
          </p:nvPicPr>
          <p:blipFill>
            <a:blip r:embed="rId1"/>
            <a:stretch/>
          </p:blipFill>
          <p:spPr>
            <a:xfrm>
              <a:off x="304920" y="1176480"/>
              <a:ext cx="824220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24000" y="1197000"/>
              <a:ext cx="8208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ABLE­DRIVEN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quence, initially empty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     // a table, indexed by percept sequences,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/ initially fully specified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the end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OOKU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,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26" name="Rectangle 4"/>
          <p:cNvSpPr/>
          <p:nvPr/>
        </p:nvSpPr>
        <p:spPr>
          <a:xfrm>
            <a:off x="2843280" y="4005360"/>
            <a:ext cx="6300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Vollständige Abbildung ist oft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ht möglich (z.B. wen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icht diskret) od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u aufwendig (z.B. Schach: ca. 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ositionen) und Lernen dauert dementsprechend zu lang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ssen ist zu statisch: Änderungen der Umwelt führen zu Fehlverhalt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72440" y="4653000"/>
            <a:ext cx="3066840" cy="1466280"/>
            <a:chOff x="172440" y="4653000"/>
            <a:chExt cx="3066840" cy="1466280"/>
          </a:xfrm>
        </p:grpSpPr>
        <p:sp>
          <p:nvSpPr>
            <p:cNvPr id="528" name="Text Box 5"/>
            <p:cNvSpPr/>
            <p:nvPr/>
          </p:nvSpPr>
          <p:spPr>
            <a:xfrm>
              <a:off x="172440" y="4653000"/>
              <a:ext cx="3066840" cy="14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ahrnehmung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   Aktio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        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...                      ...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6"/>
            <p:cNvSpPr/>
            <p:nvPr/>
          </p:nvSpPr>
          <p:spPr>
            <a:xfrm>
              <a:off x="250920" y="5011920"/>
              <a:ext cx="29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7"/>
            <p:cNvSpPr/>
            <p:nvPr/>
          </p:nvSpPr>
          <p:spPr>
            <a:xfrm>
              <a:off x="2236680" y="4753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8920" y="1483920"/>
            <a:ext cx="6840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stungsstarke Lernverfah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ieren mit verrauschten D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raceful degrad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 inspiriert von Bi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deklarative Semantik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kursive Struktur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von Hintergrundwissen problematis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603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24544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2454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b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en von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dem, wie die Abbildung durchgeführt wird (Nutzung von Wissen), unterschiedliche Ty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r, reagierend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nutzt einfach Abbildung von Wahrnehmungen zu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gierender Agent mit internen Zustän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rbeitet mit Gedächtnis um den aktuellen Zustand der Welt besser zu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orient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wendet Wissen über wünschenswerte Zustände (zu erreichende Ziele), entscheidet, ob eine Aktion diesbezüglich sinnvoll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ützlichkeitsbas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gewichtet zusätzlich Zustände, um den Wert unterschiedlicher Aktionen zu beu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216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45" name="AutoShape 14"/>
          <p:cNvCxnSpPr>
            <a:stCxn id="542" idx="2"/>
            <a:endCxn id="543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Line 15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Line 16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9" name="Line 18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52" name="AutoShape 21"/>
          <p:cNvCxnSpPr>
            <a:stCxn id="544" idx="6"/>
            <a:endCxn id="543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4" name="Rectangle 3"/>
          <p:cNvGrpSpPr/>
          <p:nvPr/>
        </p:nvGrpSpPr>
        <p:grpSpPr>
          <a:xfrm>
            <a:off x="158760" y="2401920"/>
            <a:ext cx="8454960" cy="2316240"/>
            <a:chOff x="158760" y="2401920"/>
            <a:chExt cx="8454960" cy="2316240"/>
          </a:xfrm>
        </p:grpSpPr>
        <p:pic>
          <p:nvPicPr>
            <p:cNvPr id="55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2401920"/>
              <a:ext cx="8454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79280" y="2421000"/>
              <a:ext cx="8425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PLE­REFLEX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NTERPRET­INPU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, 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Oval 13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Oval 14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0" name="AutoShape 15"/>
          <p:cNvCxnSpPr>
            <a:stCxn id="566" idx="2"/>
            <a:endCxn id="567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Line 16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3" name="Line 18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5" name="Oval 20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6" name="Oval 21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8" name="Text Box 23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9" name="AutoShape 24"/>
          <p:cNvCxnSpPr>
            <a:stCxn id="575" idx="6"/>
            <a:endCxn id="56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AutoShape 25"/>
          <p:cNvCxnSpPr>
            <a:stCxn id="569" idx="6"/>
            <a:endCxn id="567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Line 26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2" name="Line 27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4" name="Rectangle 3"/>
          <p:cNvGrpSpPr/>
          <p:nvPr/>
        </p:nvGrpSpPr>
        <p:grpSpPr>
          <a:xfrm>
            <a:off x="231840" y="2255760"/>
            <a:ext cx="8704080" cy="3048120"/>
            <a:chOff x="231840" y="2255760"/>
            <a:chExt cx="8704080" cy="3048120"/>
          </a:xfrm>
        </p:grpSpPr>
        <p:pic>
          <p:nvPicPr>
            <p:cNvPr id="585" name="Rectangle 3" descr=""/>
            <p:cNvPicPr/>
            <p:nvPr/>
          </p:nvPicPr>
          <p:blipFill>
            <a:blip r:embed="rId1"/>
            <a:stretch/>
          </p:blipFill>
          <p:spPr>
            <a:xfrm>
              <a:off x="231840" y="2255760"/>
              <a:ext cx="870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50920" y="2276640"/>
              <a:ext cx="867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FLEX­AGENT­WITH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description of the current world state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orient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914400" y="48006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01" name="AutoShape 16"/>
          <p:cNvCxnSpPr>
            <a:stCxn id="596" idx="2"/>
            <a:endCxn id="59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7"/>
          <p:cNvCxnSpPr>
            <a:stCxn id="597" idx="2"/>
            <a:endCxn id="598" idx="0"/>
          </p:cNvCxnSpPr>
          <p:nvPr/>
        </p:nvCxnSpPr>
        <p:spPr>
          <a:xfrm>
            <a:off x="4887720" y="3609720"/>
            <a:ext cx="1080" cy="11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Line 18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4" name="Line 19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5" name="Line 20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7" name="Oval 22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8" name="Oval 23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11" name="AutoShape 26"/>
          <p:cNvCxnSpPr>
            <a:stCxn id="607" idx="6"/>
            <a:endCxn id="59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27"/>
          <p:cNvCxnSpPr>
            <a:stCxn id="608" idx="6"/>
            <a:endCxn id="59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28"/>
          <p:cNvCxnSpPr>
            <a:stCxn id="600" idx="6"/>
            <a:endCxn id="598" idx="1"/>
          </p:cNvCxnSpPr>
          <p:nvPr/>
        </p:nvCxnSpPr>
        <p:spPr>
          <a:xfrm>
            <a:off x="2209680" y="5028840"/>
            <a:ext cx="1524960" cy="2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Line 29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Line 30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6" name="Line 31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ützlichkeitsbas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3841920" y="3841920"/>
            <a:ext cx="2091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glücklich werd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ch damit sei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Oval 16"/>
          <p:cNvSpPr/>
          <p:nvPr/>
        </p:nvSpPr>
        <p:spPr>
          <a:xfrm>
            <a:off x="952560" y="449568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ützlichkei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32" name="AutoShape 17"/>
          <p:cNvCxnSpPr>
            <a:stCxn id="626" idx="2"/>
            <a:endCxn id="62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18"/>
          <p:cNvCxnSpPr>
            <a:stCxn id="627" idx="2"/>
            <a:endCxn id="628" idx="0"/>
          </p:cNvCxnSpPr>
          <p:nvPr/>
        </p:nvCxnSpPr>
        <p:spPr>
          <a:xfrm>
            <a:off x="4887720" y="361008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19"/>
          <p:cNvCxnSpPr>
            <a:stCxn id="628" idx="2"/>
            <a:endCxn id="629" idx="0"/>
          </p:cNvCxnSpPr>
          <p:nvPr/>
        </p:nvCxnSpPr>
        <p:spPr>
          <a:xfrm>
            <a:off x="4887720" y="449244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Line 20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Line 22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Oval 24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Oval 25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43" name="AutoShape 28"/>
          <p:cNvCxnSpPr>
            <a:stCxn id="639" idx="6"/>
            <a:endCxn id="62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40" idx="6"/>
            <a:endCxn id="62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stCxn id="631" idx="6"/>
            <a:endCxn id="628" idx="1"/>
          </p:cNvCxnSpPr>
          <p:nvPr/>
        </p:nvCxnSpPr>
        <p:spPr>
          <a:xfrm flipV="1">
            <a:off x="2247480" y="4166640"/>
            <a:ext cx="159156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Line 31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Line 32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Line 33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Ausblick: Multiagenten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5720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t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unabhängig und autonom agieren, um die an sie delegierten Aufgaben zu erledi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ciety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mit anderen Agenten interagieren, um ihre Aufgaben zu erfüllen, auch wenn manche dieser Agenten gegensätzliche Interessen haben und ihre eigenen (konkurrierenden) Ziele verfol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rkmechanismen in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zentrale Steu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ottom u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Fähigkeiten der Agenten führen zum gewünschten Interaktionsverhalten auf Gruppenebene (s.a. emergent behavio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Regeln auf Gruppenebene (wie Konventionen, Normen) bestimmen das Interaktionsrepertoire auf der Ebene einzelner Ag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ue Aspekte bei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, Verhandlung und Vereinbarung: Sprachen und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äsentation von und Schlussfolgern über Wissen, Aktionen, und Pläne anderer Agenten sowie Interaktionsproz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meidung chaotischen Systemverhal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ldung und Auflösung von Organisationsstruk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basier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klarati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nschlichem Denk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empfu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lizite Kodierung von Wi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gradig rekurs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pfindlich gegenüber Raus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haben hohe theoretische Komplexitä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65440" y="234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16580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obo-C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328464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he year 2050, develop a team of fully autonomous humanoid robots that can win against the human world soccer champion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robocup2004.pt/photosAndVideos/videos/hum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Middlesize"/>
          <p:cNvPicPr/>
          <p:nvPr/>
        </p:nvPicPr>
        <p:blipFill>
          <a:blip r:embed="rId2"/>
          <a:stretch/>
        </p:blipFill>
        <p:spPr>
          <a:xfrm>
            <a:off x="4140360" y="404640"/>
            <a:ext cx="3816360" cy="2713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SocSim"/>
          <p:cNvPicPr/>
          <p:nvPr/>
        </p:nvPicPr>
        <p:blipFill>
          <a:blip r:embed="rId3"/>
          <a:srcRect l="0" t="0" r="0" b="15829"/>
          <a:stretch/>
        </p:blipFill>
        <p:spPr>
          <a:xfrm>
            <a:off x="468360" y="981000"/>
            <a:ext cx="3708360" cy="2160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Legged"/>
          <p:cNvPicPr/>
          <p:nvPr/>
        </p:nvPicPr>
        <p:blipFill>
          <a:blip r:embed="rId4"/>
          <a:stretch/>
        </p:blipFill>
        <p:spPr>
          <a:xfrm>
            <a:off x="468360" y="4146480"/>
            <a:ext cx="3816360" cy="271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ResRobo"/>
          <p:cNvPicPr/>
          <p:nvPr/>
        </p:nvPicPr>
        <p:blipFill>
          <a:blip r:embed="rId5"/>
          <a:stretch/>
        </p:blipFill>
        <p:spPr>
          <a:xfrm>
            <a:off x="4284720" y="4065480"/>
            <a:ext cx="3994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nächste Vorlesu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twendigkeit hybrider 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70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164360" y="6499080"/>
            <a:ext cx="1590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h W. Wahlster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lösung durch Suche in einem Zustandsraum: gesucht wird Pfad von einem Startzustand zu einem Zielzu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nformierte Suche (Breiten-/Tiefensu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ierte Suche (heuristische Suche, Optimalsuch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n-)vollständige Kontrolle über die Zustandsübergänge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minimierung / Gewinnmaxi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32200" y="554904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34200" y="504756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16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118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207080" y="619668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086560" y="619848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343680" y="619668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068000" y="580320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37" name="AutoShape 12"/>
          <p:cNvCxnSpPr>
            <a:stCxn id="129" idx="0"/>
            <a:endCxn id="130" idx="1"/>
          </p:cNvCxnSpPr>
          <p:nvPr/>
        </p:nvCxnSpPr>
        <p:spPr>
          <a:xfrm flipV="1">
            <a:off x="422280" y="5307840"/>
            <a:ext cx="504000" cy="235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2"/>
            <a:endCxn id="133" idx="1"/>
          </p:cNvCxnSpPr>
          <p:nvPr/>
        </p:nvCxnSpPr>
        <p:spPr>
          <a:xfrm>
            <a:off x="422280" y="6075000"/>
            <a:ext cx="776880" cy="383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0" idx="3"/>
            <a:endCxn id="131" idx="1"/>
          </p:cNvCxnSpPr>
          <p:nvPr/>
        </p:nvCxnSpPr>
        <p:spPr>
          <a:xfrm>
            <a:off x="1379160" y="5308200"/>
            <a:ext cx="89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3" idx="3"/>
            <a:endCxn id="134" idx="1"/>
          </p:cNvCxnSpPr>
          <p:nvPr/>
        </p:nvCxnSpPr>
        <p:spPr>
          <a:xfrm>
            <a:off x="1652400" y="6458040"/>
            <a:ext cx="42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" name="AutoShape 16"/>
          <p:cNvCxnSpPr>
            <a:stCxn id="134" idx="3"/>
            <a:endCxn id="135" idx="1"/>
          </p:cNvCxnSpPr>
          <p:nvPr/>
        </p:nvCxnSpPr>
        <p:spPr>
          <a:xfrm flipV="1">
            <a:off x="2492280" y="6457680"/>
            <a:ext cx="843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AutoShape 17"/>
          <p:cNvCxnSpPr>
            <a:stCxn id="131" idx="3"/>
            <a:endCxn id="132" idx="1"/>
          </p:cNvCxnSpPr>
          <p:nvPr/>
        </p:nvCxnSpPr>
        <p:spPr>
          <a:xfrm>
            <a:off x="2706480" y="5308200"/>
            <a:ext cx="89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AutoShape 18"/>
          <p:cNvCxnSpPr>
            <a:stCxn id="135" idx="3"/>
            <a:endCxn id="136" idx="1"/>
          </p:cNvCxnSpPr>
          <p:nvPr/>
        </p:nvCxnSpPr>
        <p:spPr>
          <a:xfrm flipV="1">
            <a:off x="3730320" y="6063840"/>
            <a:ext cx="3290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4" name="AutoShape 19"/>
          <p:cNvCxnSpPr>
            <a:stCxn id="130" idx="2"/>
            <a:endCxn id="133" idx="0"/>
          </p:cNvCxnSpPr>
          <p:nvPr/>
        </p:nvCxnSpPr>
        <p:spPr>
          <a:xfrm>
            <a:off x="1152000" y="5573520"/>
            <a:ext cx="273960" cy="618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AutoShape 20"/>
          <p:cNvCxnSpPr>
            <a:stCxn id="131" idx="2"/>
            <a:endCxn id="134" idx="0"/>
          </p:cNvCxnSpPr>
          <p:nvPr/>
        </p:nvCxnSpPr>
        <p:spPr>
          <a:xfrm flipH="1">
            <a:off x="2285280" y="5573520"/>
            <a:ext cx="205560" cy="619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6" name="Text Box 21"/>
          <p:cNvSpPr/>
          <p:nvPr/>
        </p:nvSpPr>
        <p:spPr>
          <a:xfrm>
            <a:off x="453960" y="502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3496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67292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6856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64916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72088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322280" y="561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24350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81132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3186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085440" y="541872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912720" y="541872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76982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8487360" y="541584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60" name="AutoShape 35"/>
          <p:cNvCxnSpPr>
            <a:stCxn id="155" idx="3"/>
            <a:endCxn id="156" idx="1"/>
          </p:cNvCxnSpPr>
          <p:nvPr/>
        </p:nvCxnSpPr>
        <p:spPr>
          <a:xfrm>
            <a:off x="5705280" y="5679720"/>
            <a:ext cx="371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1" name="AutoShape 36"/>
          <p:cNvCxnSpPr>
            <a:stCxn id="156" idx="3"/>
            <a:endCxn id="157" idx="1"/>
          </p:cNvCxnSpPr>
          <p:nvPr/>
        </p:nvCxnSpPr>
        <p:spPr>
          <a:xfrm>
            <a:off x="6531120" y="5679720"/>
            <a:ext cx="373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2" name="AutoShape 37"/>
          <p:cNvCxnSpPr>
            <a:stCxn id="157" idx="3"/>
            <a:endCxn id="158" idx="1"/>
          </p:cNvCxnSpPr>
          <p:nvPr/>
        </p:nvCxnSpPr>
        <p:spPr>
          <a:xfrm>
            <a:off x="7318440" y="5679720"/>
            <a:ext cx="372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3" name="AutoShape 38"/>
          <p:cNvCxnSpPr>
            <a:stCxn id="158" idx="3"/>
            <a:endCxn id="159" idx="1"/>
          </p:cNvCxnSpPr>
          <p:nvPr/>
        </p:nvCxnSpPr>
        <p:spPr>
          <a:xfrm flipV="1">
            <a:off x="8084880" y="5676120"/>
            <a:ext cx="39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4" name="AutoShape 39"/>
          <p:cNvCxnSpPr>
            <a:stCxn id="155" idx="2"/>
            <a:endCxn id="159" idx="2"/>
          </p:cNvCxnSpPr>
          <p:nvPr/>
        </p:nvCxnSpPr>
        <p:spPr>
          <a:xfrm flipH="1" flipV="1" rot="5400000">
            <a:off x="7095960" y="4354200"/>
            <a:ext cx="3600" cy="3178800"/>
          </a:xfrm>
          <a:prstGeom prst="curvedConnector5">
            <a:avLst>
              <a:gd name="adj1" fmla="val -7200000"/>
              <a:gd name="adj2" fmla="val 49994"/>
              <a:gd name="adj3" fmla="val -72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5" name="Text Box 40"/>
          <p:cNvSpPr/>
          <p:nvPr/>
        </p:nvSpPr>
        <p:spPr>
          <a:xfrm>
            <a:off x="68594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e: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7" name="Group 1027"/>
          <p:cNvGrpSpPr/>
          <p:nvPr/>
        </p:nvGrpSpPr>
        <p:grpSpPr>
          <a:xfrm>
            <a:off x="762120" y="2819520"/>
            <a:ext cx="1143000" cy="1143000"/>
            <a:chOff x="762120" y="2819520"/>
            <a:chExt cx="1143000" cy="1143000"/>
          </a:xfrm>
        </p:grpSpPr>
        <p:sp>
          <p:nvSpPr>
            <p:cNvPr id="168" name="Rectangle 1028"/>
            <p:cNvSpPr/>
            <p:nvPr/>
          </p:nvSpPr>
          <p:spPr>
            <a:xfrm>
              <a:off x="7621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11430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0" name="Rectangle 1030"/>
            <p:cNvSpPr/>
            <p:nvPr/>
          </p:nvSpPr>
          <p:spPr>
            <a:xfrm>
              <a:off x="15238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1" name="Rectangle 1031"/>
            <p:cNvSpPr/>
            <p:nvPr/>
          </p:nvSpPr>
          <p:spPr>
            <a:xfrm>
              <a:off x="7621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" name="Rectangle 1032"/>
            <p:cNvSpPr/>
            <p:nvPr/>
          </p:nvSpPr>
          <p:spPr>
            <a:xfrm>
              <a:off x="11430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15238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" name="Rectangle 1034"/>
            <p:cNvSpPr/>
            <p:nvPr/>
          </p:nvSpPr>
          <p:spPr>
            <a:xfrm>
              <a:off x="7621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5" name="Rectangle 1035"/>
            <p:cNvSpPr/>
            <p:nvPr/>
          </p:nvSpPr>
          <p:spPr>
            <a:xfrm>
              <a:off x="11430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6" name="Rectangle 1036"/>
            <p:cNvSpPr/>
            <p:nvPr/>
          </p:nvSpPr>
          <p:spPr>
            <a:xfrm>
              <a:off x="15238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77" name="Group 1037"/>
          <p:cNvGrpSpPr/>
          <p:nvPr/>
        </p:nvGrpSpPr>
        <p:grpSpPr>
          <a:xfrm>
            <a:off x="4267080" y="1219320"/>
            <a:ext cx="1143000" cy="1143000"/>
            <a:chOff x="4267080" y="1219320"/>
            <a:chExt cx="1143000" cy="1143000"/>
          </a:xfrm>
        </p:grpSpPr>
        <p:sp>
          <p:nvSpPr>
            <p:cNvPr id="178" name="Rectangle 1038"/>
            <p:cNvSpPr/>
            <p:nvPr/>
          </p:nvSpPr>
          <p:spPr>
            <a:xfrm>
              <a:off x="4267080" y="12193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9" name="Rectangle 1039"/>
            <p:cNvSpPr/>
            <p:nvPr/>
          </p:nvSpPr>
          <p:spPr>
            <a:xfrm>
              <a:off x="464832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0" name="Rectangle 1040"/>
            <p:cNvSpPr/>
            <p:nvPr/>
          </p:nvSpPr>
          <p:spPr>
            <a:xfrm>
              <a:off x="502920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1" name="Rectangle 1041"/>
            <p:cNvSpPr/>
            <p:nvPr/>
          </p:nvSpPr>
          <p:spPr>
            <a:xfrm>
              <a:off x="4267080" y="160020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2" name="Rectangle 1042"/>
            <p:cNvSpPr/>
            <p:nvPr/>
          </p:nvSpPr>
          <p:spPr>
            <a:xfrm>
              <a:off x="464832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3" name="Rectangle 1043"/>
            <p:cNvSpPr/>
            <p:nvPr/>
          </p:nvSpPr>
          <p:spPr>
            <a:xfrm>
              <a:off x="502920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4" name="Rectangle 1044"/>
            <p:cNvSpPr/>
            <p:nvPr/>
          </p:nvSpPr>
          <p:spPr>
            <a:xfrm>
              <a:off x="4267080" y="198144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5" name="Rectangle 1045"/>
            <p:cNvSpPr/>
            <p:nvPr/>
          </p:nvSpPr>
          <p:spPr>
            <a:xfrm>
              <a:off x="464832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6" name="Rectangle 1046"/>
            <p:cNvSpPr/>
            <p:nvPr/>
          </p:nvSpPr>
          <p:spPr>
            <a:xfrm>
              <a:off x="502920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7" name="Group 1047"/>
          <p:cNvGrpSpPr/>
          <p:nvPr/>
        </p:nvGrpSpPr>
        <p:grpSpPr>
          <a:xfrm>
            <a:off x="2514600" y="2819520"/>
            <a:ext cx="1143000" cy="1143000"/>
            <a:chOff x="2514600" y="2819520"/>
            <a:chExt cx="1143000" cy="1143000"/>
          </a:xfrm>
        </p:grpSpPr>
        <p:sp>
          <p:nvSpPr>
            <p:cNvPr id="188" name="Rectangle 1048"/>
            <p:cNvSpPr/>
            <p:nvPr/>
          </p:nvSpPr>
          <p:spPr>
            <a:xfrm>
              <a:off x="25146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9" name="Rectangle 1049"/>
            <p:cNvSpPr/>
            <p:nvPr/>
          </p:nvSpPr>
          <p:spPr>
            <a:xfrm>
              <a:off x="28954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0" name="Rectangle 1050"/>
            <p:cNvSpPr/>
            <p:nvPr/>
          </p:nvSpPr>
          <p:spPr>
            <a:xfrm>
              <a:off x="32763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1" name="Rectangle 1051"/>
            <p:cNvSpPr/>
            <p:nvPr/>
          </p:nvSpPr>
          <p:spPr>
            <a:xfrm>
              <a:off x="25146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2" name="Rectangle 1052"/>
            <p:cNvSpPr/>
            <p:nvPr/>
          </p:nvSpPr>
          <p:spPr>
            <a:xfrm>
              <a:off x="28954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3" name="Rectangle 1053"/>
            <p:cNvSpPr/>
            <p:nvPr/>
          </p:nvSpPr>
          <p:spPr>
            <a:xfrm>
              <a:off x="327636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4" name="Rectangle 1054"/>
            <p:cNvSpPr/>
            <p:nvPr/>
          </p:nvSpPr>
          <p:spPr>
            <a:xfrm>
              <a:off x="25146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5" name="Rectangle 1055"/>
            <p:cNvSpPr/>
            <p:nvPr/>
          </p:nvSpPr>
          <p:spPr>
            <a:xfrm>
              <a:off x="28954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6" name="Rectangle 1056"/>
            <p:cNvSpPr/>
            <p:nvPr/>
          </p:nvSpPr>
          <p:spPr>
            <a:xfrm>
              <a:off x="327636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97" name="Group 1057"/>
          <p:cNvGrpSpPr/>
          <p:nvPr/>
        </p:nvGrpSpPr>
        <p:grpSpPr>
          <a:xfrm>
            <a:off x="4267080" y="2819520"/>
            <a:ext cx="1143000" cy="1143000"/>
            <a:chOff x="4267080" y="2819520"/>
            <a:chExt cx="1143000" cy="1143000"/>
          </a:xfrm>
        </p:grpSpPr>
        <p:sp>
          <p:nvSpPr>
            <p:cNvPr id="198" name="Rectangle 1058"/>
            <p:cNvSpPr/>
            <p:nvPr/>
          </p:nvSpPr>
          <p:spPr>
            <a:xfrm>
              <a:off x="42670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9" name="Rectangle 1059"/>
            <p:cNvSpPr/>
            <p:nvPr/>
          </p:nvSpPr>
          <p:spPr>
            <a:xfrm>
              <a:off x="464796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0" name="Rectangle 1060"/>
            <p:cNvSpPr/>
            <p:nvPr/>
          </p:nvSpPr>
          <p:spPr>
            <a:xfrm>
              <a:off x="502884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1" name="Rectangle 1061"/>
            <p:cNvSpPr/>
            <p:nvPr/>
          </p:nvSpPr>
          <p:spPr>
            <a:xfrm>
              <a:off x="42670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Rectangle 1062"/>
            <p:cNvSpPr/>
            <p:nvPr/>
          </p:nvSpPr>
          <p:spPr>
            <a:xfrm>
              <a:off x="46479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3" name="Rectangle 1063"/>
            <p:cNvSpPr/>
            <p:nvPr/>
          </p:nvSpPr>
          <p:spPr>
            <a:xfrm>
              <a:off x="50288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4" name="Rectangle 1064"/>
            <p:cNvSpPr/>
            <p:nvPr/>
          </p:nvSpPr>
          <p:spPr>
            <a:xfrm>
              <a:off x="42670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Rectangle 1065"/>
            <p:cNvSpPr/>
            <p:nvPr/>
          </p:nvSpPr>
          <p:spPr>
            <a:xfrm>
              <a:off x="464796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6" name="Rectangle 1066"/>
            <p:cNvSpPr/>
            <p:nvPr/>
          </p:nvSpPr>
          <p:spPr>
            <a:xfrm>
              <a:off x="502884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7" name="Group 1067"/>
          <p:cNvGrpSpPr/>
          <p:nvPr/>
        </p:nvGrpSpPr>
        <p:grpSpPr>
          <a:xfrm>
            <a:off x="6019920" y="2819520"/>
            <a:ext cx="1143000" cy="1143000"/>
            <a:chOff x="6019920" y="2819520"/>
            <a:chExt cx="1143000" cy="1143000"/>
          </a:xfrm>
        </p:grpSpPr>
        <p:sp>
          <p:nvSpPr>
            <p:cNvPr id="208" name="Rectangle 1068"/>
            <p:cNvSpPr/>
            <p:nvPr/>
          </p:nvSpPr>
          <p:spPr>
            <a:xfrm>
              <a:off x="60199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9" name="Rectangle 1069"/>
            <p:cNvSpPr/>
            <p:nvPr/>
          </p:nvSpPr>
          <p:spPr>
            <a:xfrm>
              <a:off x="6400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0" name="Rectangle 1070"/>
            <p:cNvSpPr/>
            <p:nvPr/>
          </p:nvSpPr>
          <p:spPr>
            <a:xfrm>
              <a:off x="67816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Rectangle 1071"/>
            <p:cNvSpPr/>
            <p:nvPr/>
          </p:nvSpPr>
          <p:spPr>
            <a:xfrm>
              <a:off x="60199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2" name="Rectangle 1072"/>
            <p:cNvSpPr/>
            <p:nvPr/>
          </p:nvSpPr>
          <p:spPr>
            <a:xfrm>
              <a:off x="64008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3" name="Rectangle 1073"/>
            <p:cNvSpPr/>
            <p:nvPr/>
          </p:nvSpPr>
          <p:spPr>
            <a:xfrm>
              <a:off x="67816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Rectangle 1074"/>
            <p:cNvSpPr/>
            <p:nvPr/>
          </p:nvSpPr>
          <p:spPr>
            <a:xfrm>
              <a:off x="60199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5" name="Rectangle 1075"/>
            <p:cNvSpPr/>
            <p:nvPr/>
          </p:nvSpPr>
          <p:spPr>
            <a:xfrm>
              <a:off x="64008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6" name="Rectangle 1076"/>
            <p:cNvSpPr/>
            <p:nvPr/>
          </p:nvSpPr>
          <p:spPr>
            <a:xfrm>
              <a:off x="67816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7" name="Group 1077"/>
          <p:cNvGrpSpPr/>
          <p:nvPr/>
        </p:nvGrpSpPr>
        <p:grpSpPr>
          <a:xfrm>
            <a:off x="1143000" y="4572000"/>
            <a:ext cx="1143000" cy="1143000"/>
            <a:chOff x="1143000" y="4572000"/>
            <a:chExt cx="1143000" cy="1143000"/>
          </a:xfrm>
        </p:grpSpPr>
        <p:sp>
          <p:nvSpPr>
            <p:cNvPr id="218" name="Rectangle 1078"/>
            <p:cNvSpPr/>
            <p:nvPr/>
          </p:nvSpPr>
          <p:spPr>
            <a:xfrm>
              <a:off x="11430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9" name="Rectangle 1079"/>
            <p:cNvSpPr/>
            <p:nvPr/>
          </p:nvSpPr>
          <p:spPr>
            <a:xfrm>
              <a:off x="15238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0" name="Rectangle 1080"/>
            <p:cNvSpPr/>
            <p:nvPr/>
          </p:nvSpPr>
          <p:spPr>
            <a:xfrm>
              <a:off x="19047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1" name="Rectangle 1081"/>
            <p:cNvSpPr/>
            <p:nvPr/>
          </p:nvSpPr>
          <p:spPr>
            <a:xfrm>
              <a:off x="11430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2" name="Rectangle 1082"/>
            <p:cNvSpPr/>
            <p:nvPr/>
          </p:nvSpPr>
          <p:spPr>
            <a:xfrm>
              <a:off x="15238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3" name="Rectangle 1083"/>
            <p:cNvSpPr/>
            <p:nvPr/>
          </p:nvSpPr>
          <p:spPr>
            <a:xfrm>
              <a:off x="19047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4" name="Rectangle 1084"/>
            <p:cNvSpPr/>
            <p:nvPr/>
          </p:nvSpPr>
          <p:spPr>
            <a:xfrm>
              <a:off x="11430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5" name="Rectangle 1085"/>
            <p:cNvSpPr/>
            <p:nvPr/>
          </p:nvSpPr>
          <p:spPr>
            <a:xfrm>
              <a:off x="15238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6" name="Rectangle 1086"/>
            <p:cNvSpPr/>
            <p:nvPr/>
          </p:nvSpPr>
          <p:spPr>
            <a:xfrm>
              <a:off x="19047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27" name="Group 1087"/>
          <p:cNvGrpSpPr/>
          <p:nvPr/>
        </p:nvGrpSpPr>
        <p:grpSpPr>
          <a:xfrm>
            <a:off x="2514600" y="4572000"/>
            <a:ext cx="1143000" cy="1143000"/>
            <a:chOff x="2514600" y="4572000"/>
            <a:chExt cx="1143000" cy="1143000"/>
          </a:xfrm>
        </p:grpSpPr>
        <p:sp>
          <p:nvSpPr>
            <p:cNvPr id="228" name="Rectangle 1088"/>
            <p:cNvSpPr/>
            <p:nvPr/>
          </p:nvSpPr>
          <p:spPr>
            <a:xfrm>
              <a:off x="25146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9" name="Rectangle 1089"/>
            <p:cNvSpPr/>
            <p:nvPr/>
          </p:nvSpPr>
          <p:spPr>
            <a:xfrm>
              <a:off x="28954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0" name="Rectangle 1090"/>
            <p:cNvSpPr/>
            <p:nvPr/>
          </p:nvSpPr>
          <p:spPr>
            <a:xfrm>
              <a:off x="32763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1" name="Rectangle 1091"/>
            <p:cNvSpPr/>
            <p:nvPr/>
          </p:nvSpPr>
          <p:spPr>
            <a:xfrm>
              <a:off x="25146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2" name="Rectangle 1092"/>
            <p:cNvSpPr/>
            <p:nvPr/>
          </p:nvSpPr>
          <p:spPr>
            <a:xfrm>
              <a:off x="28954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3" name="Rectangle 1093"/>
            <p:cNvSpPr/>
            <p:nvPr/>
          </p:nvSpPr>
          <p:spPr>
            <a:xfrm>
              <a:off x="32763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4" name="Rectangle 1094"/>
            <p:cNvSpPr/>
            <p:nvPr/>
          </p:nvSpPr>
          <p:spPr>
            <a:xfrm>
              <a:off x="25146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5" name="Rectangle 1095"/>
            <p:cNvSpPr/>
            <p:nvPr/>
          </p:nvSpPr>
          <p:spPr>
            <a:xfrm>
              <a:off x="28954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6" name="Rectangle 1096"/>
            <p:cNvSpPr/>
            <p:nvPr/>
          </p:nvSpPr>
          <p:spPr>
            <a:xfrm>
              <a:off x="32763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37" name="Group 1097"/>
          <p:cNvGrpSpPr/>
          <p:nvPr/>
        </p:nvGrpSpPr>
        <p:grpSpPr>
          <a:xfrm>
            <a:off x="3886200" y="4572000"/>
            <a:ext cx="1143000" cy="1143000"/>
            <a:chOff x="3886200" y="4572000"/>
            <a:chExt cx="1143000" cy="1143000"/>
          </a:xfrm>
        </p:grpSpPr>
        <p:sp>
          <p:nvSpPr>
            <p:cNvPr id="238" name="Rectangle 1098"/>
            <p:cNvSpPr/>
            <p:nvPr/>
          </p:nvSpPr>
          <p:spPr>
            <a:xfrm>
              <a:off x="38862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9" name="Rectangle 1099"/>
            <p:cNvSpPr/>
            <p:nvPr/>
          </p:nvSpPr>
          <p:spPr>
            <a:xfrm>
              <a:off x="42670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0" name="Rectangle 1100"/>
            <p:cNvSpPr/>
            <p:nvPr/>
          </p:nvSpPr>
          <p:spPr>
            <a:xfrm>
              <a:off x="46479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1" name="Rectangle 1101"/>
            <p:cNvSpPr/>
            <p:nvPr/>
          </p:nvSpPr>
          <p:spPr>
            <a:xfrm>
              <a:off x="38862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2" name="Rectangle 1102"/>
            <p:cNvSpPr/>
            <p:nvPr/>
          </p:nvSpPr>
          <p:spPr>
            <a:xfrm>
              <a:off x="42670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3" name="Rectangle 1103"/>
            <p:cNvSpPr/>
            <p:nvPr/>
          </p:nvSpPr>
          <p:spPr>
            <a:xfrm>
              <a:off x="46479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4" name="Rectangle 1104"/>
            <p:cNvSpPr/>
            <p:nvPr/>
          </p:nvSpPr>
          <p:spPr>
            <a:xfrm>
              <a:off x="38862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5" name="Rectangle 1105"/>
            <p:cNvSpPr/>
            <p:nvPr/>
          </p:nvSpPr>
          <p:spPr>
            <a:xfrm>
              <a:off x="42670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6" name="Rectangle 1106"/>
            <p:cNvSpPr/>
            <p:nvPr/>
          </p:nvSpPr>
          <p:spPr>
            <a:xfrm>
              <a:off x="46479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247" name="AutoShape 1107"/>
          <p:cNvCxnSpPr>
            <a:stCxn id="185" idx="2"/>
            <a:endCxn id="169" idx="0"/>
          </p:cNvCxnSpPr>
          <p:nvPr/>
        </p:nvCxnSpPr>
        <p:spPr>
          <a:xfrm rot="5400000">
            <a:off x="2856600" y="838080"/>
            <a:ext cx="457920" cy="3506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1108"/>
          <p:cNvCxnSpPr>
            <a:stCxn id="185" idx="2"/>
            <a:endCxn id="189" idx="0"/>
          </p:cNvCxnSpPr>
          <p:nvPr/>
        </p:nvCxnSpPr>
        <p:spPr>
          <a:xfrm rot="5400000">
            <a:off x="3733200" y="171468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1109"/>
          <p:cNvCxnSpPr>
            <a:stCxn id="185" idx="2"/>
            <a:endCxn id="199" idx="0"/>
          </p:cNvCxnSpPr>
          <p:nvPr/>
        </p:nvCxnSpPr>
        <p:spPr>
          <a:xfrm flipH="1">
            <a:off x="4838040" y="2362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1110"/>
          <p:cNvCxnSpPr>
            <a:stCxn id="185" idx="2"/>
            <a:endCxn id="209" idx="0"/>
          </p:cNvCxnSpPr>
          <p:nvPr/>
        </p:nvCxnSpPr>
        <p:spPr>
          <a:xfrm flipH="1" rot="16200000">
            <a:off x="5486400" y="171432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1111"/>
          <p:cNvCxnSpPr>
            <a:stCxn id="195" idx="2"/>
            <a:endCxn id="219" idx="0"/>
          </p:cNvCxnSpPr>
          <p:nvPr/>
        </p:nvCxnSpPr>
        <p:spPr>
          <a:xfrm rot="5400000">
            <a:off x="2095200" y="358128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1112"/>
          <p:cNvCxnSpPr>
            <a:stCxn id="195" idx="2"/>
            <a:endCxn id="229" idx="0"/>
          </p:cNvCxnSpPr>
          <p:nvPr/>
        </p:nvCxnSpPr>
        <p:spPr>
          <a:xfrm flipH="1">
            <a:off x="3085560" y="39621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113"/>
          <p:cNvCxnSpPr>
            <a:stCxn id="195" idx="2"/>
            <a:endCxn id="239" idx="0"/>
          </p:cNvCxnSpPr>
          <p:nvPr/>
        </p:nvCxnSpPr>
        <p:spPr>
          <a:xfrm flipH="1" rot="16200000">
            <a:off x="3467160" y="358092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Line 1114"/>
          <p:cNvSpPr/>
          <p:nvPr/>
        </p:nvSpPr>
        <p:spPr>
          <a:xfrm>
            <a:off x="6629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5" name="Line 1115"/>
          <p:cNvSpPr/>
          <p:nvPr/>
        </p:nvSpPr>
        <p:spPr>
          <a:xfrm>
            <a:off x="8381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6" name="Line 1116"/>
          <p:cNvSpPr/>
          <p:nvPr/>
        </p:nvSpPr>
        <p:spPr>
          <a:xfrm>
            <a:off x="44197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Line 1117"/>
          <p:cNvSpPr/>
          <p:nvPr/>
        </p:nvSpPr>
        <p:spPr>
          <a:xfrm>
            <a:off x="6019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Oval 1118"/>
          <p:cNvSpPr/>
          <p:nvPr/>
        </p:nvSpPr>
        <p:spPr>
          <a:xfrm>
            <a:off x="83808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Oval 1119"/>
          <p:cNvSpPr/>
          <p:nvPr/>
        </p:nvSpPr>
        <p:spPr>
          <a:xfrm>
            <a:off x="2959200" y="29336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Oval 1120"/>
          <p:cNvSpPr/>
          <p:nvPr/>
        </p:nvSpPr>
        <p:spPr>
          <a:xfrm>
            <a:off x="510552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Oval 1121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Oval 1122"/>
          <p:cNvSpPr/>
          <p:nvPr/>
        </p:nvSpPr>
        <p:spPr>
          <a:xfrm>
            <a:off x="16002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3" name="Oval 1123"/>
          <p:cNvSpPr/>
          <p:nvPr/>
        </p:nvSpPr>
        <p:spPr>
          <a:xfrm>
            <a:off x="29718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4" name="Oval 1124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Oval 1125"/>
          <p:cNvSpPr/>
          <p:nvPr/>
        </p:nvSpPr>
        <p:spPr>
          <a:xfrm>
            <a:off x="1184400" y="466416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6" name="Oval 1126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7" name="Oval 1127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8" name="Text Box 1128"/>
          <p:cNvSpPr/>
          <p:nvPr/>
        </p:nvSpPr>
        <p:spPr>
          <a:xfrm>
            <a:off x="8155080" y="2819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9" name="Text Box 1129"/>
          <p:cNvSpPr/>
          <p:nvPr/>
        </p:nvSpPr>
        <p:spPr>
          <a:xfrm>
            <a:off x="579276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Oval 1130"/>
          <p:cNvSpPr/>
          <p:nvPr/>
        </p:nvSpPr>
        <p:spPr>
          <a:xfrm>
            <a:off x="6603840" y="5864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Oval 1131"/>
          <p:cNvSpPr/>
          <p:nvPr/>
        </p:nvSpPr>
        <p:spPr>
          <a:xfrm>
            <a:off x="6603840" y="62485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Text Box 1132"/>
          <p:cNvSpPr/>
          <p:nvPr/>
        </p:nvSpPr>
        <p:spPr>
          <a:xfrm>
            <a:off x="6841800" y="57564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1430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en einer Struktur (Abfolge) von Aktionen, deren Ausführung ein gegebenes Problem 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 zu “einfacher” Problemlösun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z.B. durch Such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von Zuständen, Zielen und Aktionen meist in einen einheitlichen Repräsentations-formalismus eingebet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raum riesig und strukturiert: Suchverfahren m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ktur ausnu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henfolge bei der Erstellung des Plans nicht notwendigerweise inkrementell und vom Initialzustand ausg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560" indent="-228600">
              <a:spcBef>
                <a:spcPts val="499"/>
              </a:spcBef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2:41:51Z</dcterms:created>
  <dc:creator>ulla</dc:creator>
  <dc:description/>
  <dc:language>en-US</dc:language>
  <cp:lastModifiedBy>Sebastian Rudolph</cp:lastModifiedBy>
  <cp:lastPrinted>2008-04-14T12:38:54Z</cp:lastPrinted>
  <dcterms:modified xsi:type="dcterms:W3CDTF">2008-04-14T13:00:21Z</dcterms:modified>
  <cp:revision>220</cp:revision>
  <dc:subject/>
  <dc:title>Übersicht </dc:title>
</cp:coreProperties>
</file>